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F08-D680-42CC-9059-A4103B50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34F-5CF3-450B-AD88-9A7E6F3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B7A-E3C2-41E3-9DEF-27AF0464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AAD-D16C-4560-8920-F744B582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88E-6A76-454F-BCF9-201D524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C7C-90C5-4CBF-B2A3-C96172B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8A1-C3A2-4C7E-BD7E-EF7E591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EA0-B6DC-47EA-84FA-1C5C9AE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C01-246B-4337-B571-BBE4A42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0DC-3A90-453D-BCE5-ED3794F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FD3-07C7-46DD-80F4-870D16A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350-C441-4E1A-87EB-3E54513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EA08-76A2-4823-9444-F5BDF8909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1445760"/>
            <a:ext cx="3008520" cy="469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ibou are mammals that live in the northern regions of Europe, North America, Asia, and Greenl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dwilliams2\AppData\Local\Microsoft\Windows\Temporary Internet Files\Content.IE5\TDML042D\MC900229079[1].wmf"/>
          <p:cNvPicPr/>
          <p:nvPr/>
        </p:nvPicPr>
        <p:blipFill>
          <a:blip r:embed="rId1"/>
          <a:stretch/>
        </p:blipFill>
        <p:spPr>
          <a:xfrm>
            <a:off x="3522600" y="1676520"/>
            <a:ext cx="5035680" cy="44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dwilliams2\AppData\Local\Microsoft\Windows\Temporary Internet Files\Content.IE5\CS9S25VO\MC900412438[1].wmf"/>
          <p:cNvPicPr/>
          <p:nvPr/>
        </p:nvPicPr>
        <p:blipFill>
          <a:blip r:embed="rId2"/>
          <a:stretch/>
        </p:blipFill>
        <p:spPr>
          <a:xfrm>
            <a:off x="7738920" y="4129200"/>
            <a:ext cx="1859040" cy="1546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dwilliams2\AppData\Local\Microsoft\Windows\Temporary Internet Files\Content.IE5\7KA03RCJ\MC900439781[1].png"/>
          <p:cNvPicPr/>
          <p:nvPr/>
        </p:nvPicPr>
        <p:blipFill>
          <a:blip r:embed="rId3"/>
          <a:stretch/>
        </p:blipFill>
        <p:spPr>
          <a:xfrm>
            <a:off x="7620120" y="2585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dwilliams2\AppData\Local\Microsoft\Windows\Temporary Internet Files\Content.IE5\TDML042D\MC900436198[2].png"/>
          <p:cNvPicPr/>
          <p:nvPr/>
        </p:nvPicPr>
        <p:blipFill>
          <a:blip r:embed="rId4"/>
          <a:stretch/>
        </p:blipFill>
        <p:spPr>
          <a:xfrm>
            <a:off x="7958160" y="3657600"/>
            <a:ext cx="131760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dwilliams2\AppData\Local\Microsoft\Windows\Temporary Internet Files\Content.IE5\CS9S25VO\MC900331629[1].wmf"/>
          <p:cNvPicPr/>
          <p:nvPr/>
        </p:nvPicPr>
        <p:blipFill>
          <a:blip r:embed="rId5"/>
          <a:stretch/>
        </p:blipFill>
        <p:spPr>
          <a:xfrm>
            <a:off x="6419880" y="2197080"/>
            <a:ext cx="15811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dwilliams2\AppData\Local\Microsoft\Windows\Temporary Internet Files\Content.IE5\CS9S25VO\MC900413582[1].wmf"/>
          <p:cNvPicPr/>
          <p:nvPr/>
        </p:nvPicPr>
        <p:blipFill>
          <a:blip r:embed="rId6"/>
          <a:stretch/>
        </p:blipFill>
        <p:spPr>
          <a:xfrm>
            <a:off x="7797960" y="112680"/>
            <a:ext cx="134604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dwilliams2\AppData\Local\Microsoft\Windows\Temporary Internet Files\Content.IE5\CS9S25VO\MC900436272[1].png"/>
          <p:cNvPicPr/>
          <p:nvPr/>
        </p:nvPicPr>
        <p:blipFill>
          <a:blip r:embed="rId7"/>
          <a:stretch/>
        </p:blipFill>
        <p:spPr>
          <a:xfrm>
            <a:off x="7797960" y="78732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dwilliams2\AppData\Local\Microsoft\Windows\Temporary Internet Files\Content.IE5\D2AYSA0H\MC900353836[1].wmf"/>
          <p:cNvPicPr/>
          <p:nvPr/>
        </p:nvPicPr>
        <p:blipFill>
          <a:blip r:embed="rId8"/>
          <a:stretch/>
        </p:blipFill>
        <p:spPr>
          <a:xfrm>
            <a:off x="7837560" y="210816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0" y="203040"/>
            <a:ext cx="88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rtic Animals------- Carib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C:\Program Files (x86)\Microsoft Office\MEDIA\CAGCAT10\j0183290.wmf"/>
          <p:cNvPicPr/>
          <p:nvPr/>
        </p:nvPicPr>
        <p:blipFill>
          <a:blip r:embed="rId9"/>
          <a:stretch/>
        </p:blipFill>
        <p:spPr>
          <a:xfrm>
            <a:off x="5867280" y="682560"/>
            <a:ext cx="1454400" cy="15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dwilliams2\AppData\Local\Microsoft\Windows\Temporary Internet Files\Content.IE5\D2AYSA0H\MC900304879[1].wmf"/>
          <p:cNvPicPr/>
          <p:nvPr/>
        </p:nvPicPr>
        <p:blipFill>
          <a:blip r:embed="rId10"/>
          <a:stretch/>
        </p:blipFill>
        <p:spPr>
          <a:xfrm>
            <a:off x="4956120" y="708120"/>
            <a:ext cx="1822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6:49:24Z</dcterms:created>
  <dc:creator>dell</dc:creator>
  <dc:description/>
  <dc:language>en-US</dc:language>
  <cp:lastModifiedBy>dell</cp:lastModifiedBy>
  <dcterms:modified xsi:type="dcterms:W3CDTF">2013-12-09T17:21:54Z</dcterms:modified>
  <cp:revision>3</cp:revision>
  <dc:subject/>
  <dc:title>Arctic Animal--Caribou</dc:title>
</cp:coreProperties>
</file>